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022-CA0A-4E28-B5F7-78A19137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EBE-69E6-44A0-A59D-FEDD3B30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7C7-43C4-4311-B7B7-A06CA479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AD1-3098-473A-A0C7-E1209155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979-5FA6-47A5-B413-3A938650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418-FA96-472E-BF94-EE1A2748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89A-EFAE-4004-8BEA-7350557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49B-9DB4-4D81-9886-EB303389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554-7AB8-40E0-BA92-65FCF65F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7BF-90F0-4059-812E-D7128DA6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E41-5C2B-4A64-B28E-10EC1EE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925-7FE7-4C6E-AD17-1850AD98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85FE-3A14-4F32-B44D-AC2CADEE7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1676520" y="838080"/>
            <a:ext cx="5638680" cy="51786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3581280" y="251460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668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 Map-Defining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4:19:34Z</dcterms:created>
  <dc:creator>Computer Services</dc:creator>
  <dc:description/>
  <dc:language>en-US</dc:language>
  <cp:lastModifiedBy>WRECKLESS</cp:lastModifiedBy>
  <dcterms:modified xsi:type="dcterms:W3CDTF">2010-08-01T17:09:35Z</dcterms:modified>
  <cp:revision>1</cp:revision>
  <dc:subject/>
  <dc:title>Slide 1</dc:title>
</cp:coreProperties>
</file>